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02-1CFE-4DAE-89F1-CF3104E9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707-3D55-4577-B1D4-82E457F1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713-B68A-4E68-B8F2-D6B44E6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3FB-25CF-4E5A-AB6E-3714CF2A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BC1-6A8E-495E-8E6E-1ACA1AB7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775-2FCF-4A70-A370-D4B35339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0D5-014C-43B9-883C-D0EBBB94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34E-3E8B-4FF8-887F-5211556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C9C-B77D-4CBF-AEEB-5F5784A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A05-7706-4B50-91B1-0CB4260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F93-EAA9-4D4B-B5E2-7AC131A4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8E6-B192-4A9A-B24C-56801DE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3494-49C1-42A8-9232-34ADB938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653256EdbXgQadtT_ph" descr=""/>
          <p:cNvPicPr/>
          <p:nvPr/>
        </p:nvPicPr>
        <p:blipFill>
          <a:blip r:embed="rId1"/>
          <a:stretch/>
        </p:blipFill>
        <p:spPr>
          <a:xfrm>
            <a:off x="-3657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609588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ٌ من إله يسوعُ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نه ابنُ الله ابنُهُ الوح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زلَ من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صارَ انسانا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ُلِد من العذ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دُنيان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220153ufSbGEcTWm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-98280"/>
            <a:ext cx="2667240" cy="9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ورٌ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بنُ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مسُ الده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هيُّ الط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زلَ إلى القب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موت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َّقَ الديج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مَ أحي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2164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7112962IYqlIRsJHe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0"/>
            <a:ext cx="3429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ساوٍ للآ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هَرُ يسوع وقلبُه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ذاب بحبنِا وُ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سوعُ في القربان قوتُنا الأشه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نُهى الأزما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جدُنا الأبه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0:39:13Z</dcterms:modified>
  <cp:revision>4</cp:revision>
  <dc:subject/>
  <dc:title>PowerPoint Presentation</dc:title>
</cp:coreProperties>
</file>